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747-93D2-4ACE-A895-114343D8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063-7C7D-44D5-AF4F-EC575425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3C9-D894-46AB-9557-791AED76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378-DDB3-4A80-92EE-B2E62054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B04B-943C-4C8F-82F7-95F3460D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B54A-435E-45F3-AC43-DFBE7B4C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B1A3-DEE3-491E-B630-B68FEC24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2854-3C26-49C1-8031-F4A003D3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03C5-023B-4D19-83B4-955FD0D4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0935-8015-472D-93A9-89C0EEA1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0EB0-A891-4C12-862E-5D527F80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C8D-C9E6-4B5F-BE7A-C9F69BCA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4C9-A667-4330-9824-66515675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5DE4-D62C-4105-847B-4B0876D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2570-221E-468C-8D8C-5278A663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7A61-3C7C-44B2-A432-A7FB1571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5874-34E9-4725-991A-3FD1921F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52A-67D7-4B31-A5DC-6D84DA38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BBD-456B-476C-B45D-9F8F4B72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A47-09A1-4C98-B7D6-307B2D5C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357-6232-4A97-834A-223A27EB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3D5-AF88-4EA5-A9EE-13BAE314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2AB-34A1-4CB7-ADD9-AC692C4D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178-BCBE-4387-9687-9DAEB03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9B46-6B1D-4F62-9961-C2C00B1055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D787-ED21-4D7D-87F2-4CCB542A72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187280" y="2205000"/>
            <a:ext cx="662472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ы чув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68360" y="47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1"/>
          </p:cNvPr>
          <p:cNvSpPr/>
          <p:nvPr/>
        </p:nvSpPr>
        <p:spPr>
          <a:xfrm>
            <a:off x="5000760" y="6904080"/>
            <a:ext cx="134604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ос – орган обоня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00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468360" y="2708280"/>
            <a:ext cx="2952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ня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х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сохранить обоня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адо закаляться, беречь организм от прост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лазить в нос посторонни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курить, так как  обоняние у курящих ухудшается.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Язык – орган вкус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997360"/>
            <a:ext cx="28828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042920" y="2421000"/>
            <a:ext cx="1924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кус ед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беречь органы вкус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истить зубы, язык и щёки два раза в день (утром и вечер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сле приёма пищи прополоскать 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льзя есть горячую пищ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брать в рот острые пред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Кожа – орган осяза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46400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611280" y="2421000"/>
            <a:ext cx="30668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яза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основени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авила ухода за кож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ую неделю мыть тело горячей водой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ть руки после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сить свободную одежду и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а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аться не ранить кожу, не допустить ожогов, обморо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бы кожа дышала, делай каждое утро за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924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е глаз видит, не ухо слышит, не нос ощущает, а моз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school.ort.spb.ru/library/small_school/nature/chelovec/urok2/pics/mozg2.jpg"/>
          <p:cNvPicPr/>
          <p:nvPr/>
        </p:nvPicPr>
        <p:blipFill>
          <a:blip r:embed="rId1"/>
          <a:stretch/>
        </p:blipFill>
        <p:spPr>
          <a:xfrm>
            <a:off x="1692360" y="3429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Тес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У человека есть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Глаза -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Уши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4. Нос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. Кожа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6. Органы чувств 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7. Всеми органами чувств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084720" y="1628640"/>
            <a:ext cx="158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увств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6084720" y="227664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зре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6156360" y="28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уха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867280" y="335772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боня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5940360" y="393372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сяза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6156360" y="4508640"/>
            <a:ext cx="16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беречь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627280" y="5589720"/>
            <a:ext cx="30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оловной мозг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омашние зада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читать статью «Как мы воспринимаем окружающий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аницы 132-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абочая тетрадь. Страница 35. Выполнить зада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700280"/>
          <a:ext cx="7924680" cy="362736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480"/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WordArt 609"/>
          <p:cNvSpPr txBox="1"/>
          <p:nvPr/>
        </p:nvSpPr>
        <p:spPr>
          <a:xfrm>
            <a:off x="1116000" y="2276640"/>
            <a:ext cx="3049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610"/>
          <p:cNvSpPr txBox="1"/>
          <p:nvPr/>
        </p:nvSpPr>
        <p:spPr>
          <a:xfrm>
            <a:off x="1116000" y="2781360"/>
            <a:ext cx="3049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611"/>
          <p:cNvSpPr txBox="1"/>
          <p:nvPr/>
        </p:nvSpPr>
        <p:spPr>
          <a:xfrm>
            <a:off x="1116000" y="3284640"/>
            <a:ext cx="30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WordArt 612"/>
          <p:cNvSpPr txBox="1"/>
          <p:nvPr/>
        </p:nvSpPr>
        <p:spPr>
          <a:xfrm>
            <a:off x="3780000" y="3284640"/>
            <a:ext cx="304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WordArt 613"/>
          <p:cNvSpPr txBox="1"/>
          <p:nvPr/>
        </p:nvSpPr>
        <p:spPr>
          <a:xfrm>
            <a:off x="3780000" y="3860640"/>
            <a:ext cx="30456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614"/>
          <p:cNvSpPr txBox="1"/>
          <p:nvPr/>
        </p:nvSpPr>
        <p:spPr>
          <a:xfrm>
            <a:off x="3708360" y="4365720"/>
            <a:ext cx="3985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615"/>
          <p:cNvSpPr txBox="1"/>
          <p:nvPr/>
        </p:nvSpPr>
        <p:spPr>
          <a:xfrm>
            <a:off x="3780000" y="4869000"/>
            <a:ext cx="304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616"/>
          <p:cNvSpPr txBox="1"/>
          <p:nvPr/>
        </p:nvSpPr>
        <p:spPr>
          <a:xfrm>
            <a:off x="5076720" y="1773360"/>
            <a:ext cx="3049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617"/>
          <p:cNvSpPr txBox="1"/>
          <p:nvPr/>
        </p:nvSpPr>
        <p:spPr>
          <a:xfrm>
            <a:off x="5076720" y="227664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18"/>
          <p:cNvSpPr txBox="1"/>
          <p:nvPr/>
        </p:nvSpPr>
        <p:spPr>
          <a:xfrm>
            <a:off x="5003640" y="2781360"/>
            <a:ext cx="432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619"/>
          <p:cNvSpPr txBox="1"/>
          <p:nvPr/>
        </p:nvSpPr>
        <p:spPr>
          <a:xfrm>
            <a:off x="5076720" y="3284640"/>
            <a:ext cx="389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620"/>
          <p:cNvSpPr txBox="1"/>
          <p:nvPr/>
        </p:nvSpPr>
        <p:spPr>
          <a:xfrm>
            <a:off x="6443640" y="3357720"/>
            <a:ext cx="304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621"/>
          <p:cNvSpPr txBox="1"/>
          <p:nvPr/>
        </p:nvSpPr>
        <p:spPr>
          <a:xfrm>
            <a:off x="644364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622"/>
          <p:cNvSpPr txBox="1"/>
          <p:nvPr/>
        </p:nvSpPr>
        <p:spPr>
          <a:xfrm>
            <a:off x="6443640" y="4365720"/>
            <a:ext cx="30492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623"/>
          <p:cNvSpPr txBox="1"/>
          <p:nvPr/>
        </p:nvSpPr>
        <p:spPr>
          <a:xfrm>
            <a:off x="7740720" y="2276640"/>
            <a:ext cx="30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624"/>
          <p:cNvSpPr txBox="1"/>
          <p:nvPr/>
        </p:nvSpPr>
        <p:spPr>
          <a:xfrm>
            <a:off x="7740720" y="278136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25"/>
          <p:cNvSpPr txBox="1"/>
          <p:nvPr/>
        </p:nvSpPr>
        <p:spPr>
          <a:xfrm>
            <a:off x="7740720" y="3284640"/>
            <a:ext cx="3603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626"/>
          <p:cNvSpPr txBox="1"/>
          <p:nvPr/>
        </p:nvSpPr>
        <p:spPr>
          <a:xfrm>
            <a:off x="7812000" y="3789360"/>
            <a:ext cx="304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627"/>
          <p:cNvSpPr txBox="1"/>
          <p:nvPr/>
        </p:nvSpPr>
        <p:spPr>
          <a:xfrm>
            <a:off x="2411280" y="3284640"/>
            <a:ext cx="304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628"/>
          <p:cNvSpPr txBox="1"/>
          <p:nvPr/>
        </p:nvSpPr>
        <p:spPr>
          <a:xfrm>
            <a:off x="1763640" y="5373720"/>
            <a:ext cx="4969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Глаза</a:t>
            </a:r>
            <a:r>
              <a:rPr b="0" lang="ru-RU" sz="6300" spc="-1" strike="noStrike">
                <a:solidFill>
                  <a:srgbClr val="ffff00"/>
                </a:solidFill>
                <a:latin typeface="Arial"/>
              </a:rPr>
              <a:t> – орган зрения.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2754000"/>
            <a:ext cx="4537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2908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468360" y="1916280"/>
            <a:ext cx="4105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ре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у, форму, ц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 и и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Берегите зрение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итай, пиши только при хорошем освещении, но помни, что яркий свет не должен попадать в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еди за тем, чтобы книга или тетрадь были на расстоянии 30-35 см от глаз. Для этого поставь руку локтем на стол и кончиками пальцев дотянись до в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письме свет должен падать сл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нигу при чтении полезно поставить на наклонную под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лё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в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перерыв между чтением 20-3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редно для глаз подолгу смотреть телевизор, компьютер; садись от экрана не ближе чем 2-3 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три руками глаза- можно занести соринку или опасные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гимнастику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– орган слух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0"/>
          <p:cNvSpPr txBox="1"/>
          <p:nvPr/>
        </p:nvSpPr>
        <p:spPr>
          <a:xfrm>
            <a:off x="5580000" y="2133720"/>
            <a:ext cx="275292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х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уко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надо беречь 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ш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ковырять в уш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давать отдых слуху, быть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ть уш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уши заболели обратиться к вр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28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от гора, а у г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ве глубокие н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 этих норах воздух брод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о заходит, то выход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( нос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5:57:54Z</dcterms:created>
  <dc:creator>Sam</dc:creator>
  <dc:description/>
  <dc:language>en-US</dc:language>
  <cp:lastModifiedBy>ПК</cp:lastModifiedBy>
  <dcterms:modified xsi:type="dcterms:W3CDTF">2012-12-13T03:24:16Z</dcterms:modified>
  <cp:revision>11</cp:revision>
  <dc:subject/>
  <dc:title>Кроссворд</dc:title>
</cp:coreProperties>
</file>